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838-00EA-4905-99CC-C46076CD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0E4-5437-4112-B5E5-C0C22E8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3C3-6D89-4351-89EE-27258286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6E1-9B8F-4731-9F97-DE6E2F3D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0E70-CC95-47D1-BD56-B3A2F14B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E674-00F4-463D-9456-AD4B5AC9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9193-CE61-4DCC-9F20-ABA7249C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A262-DB4F-40DD-8068-C7533AA0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FC40-0B1D-4322-9F6A-B9F64468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56D4-9FBF-474E-98E8-31496F5F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11F6-93A8-434A-AADB-663C075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5B4-4727-42F8-93BA-5220991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B8BB-73FA-4CCF-AFF8-6CFEC43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6ED4-EB87-4F21-8DEE-44359D51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183F-36C0-469E-9927-E609B1B7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152-EFC8-47C0-AC35-8B8CC012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EA4-A15F-440D-A5C6-0C92F976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0DDEF-6E13-4868-846B-03453819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C868-5B4C-48D9-BB50-AF9477C8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FFD2-17B9-4CFF-8F9E-C94C47A2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94835-AFD9-43F4-860D-52A3731B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3F2E-5036-46C2-8BE4-ED8ACA23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D5C-4DE5-4B76-869F-2FAB4F83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E1BA-BA74-4945-81AE-F75D22FE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A87A-186F-490C-8E64-88A1F6D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6EBB-A06C-4798-AA9C-31BBDDC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56BA-0966-4AA2-B85D-36E47EDC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532F-AF8F-47D2-9F66-C02FE685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08A9-F874-46A4-B419-A077AD69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69B8-713F-4D29-9C22-F8C68380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6997-0442-4F2E-8EDF-A9A6DAF2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7AFF8-1B2D-437F-A74C-B7C7F6D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EE3A-ADEC-421C-8BCE-0B42E74F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941-A60B-4E56-9875-8F5C6CEE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B6BFC-B8F8-4282-B345-1F618C4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A7F1-00A3-4BF7-9D3E-87A0B27E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24BDE-1C6F-4DA8-A35A-F060A3B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8FAC-AB24-4D37-B28E-7FAA2CD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1F246-7925-4F63-AB98-3D000A2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7FBD-6C6D-4A20-9D35-C383792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3802-AA71-4B97-AFD4-1F988BF8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8A0F-7F96-415B-83D5-6986BB92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AC441-F021-4C2D-8D6E-8ED7AA44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6725E-04B2-459E-9423-70E49724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467-BB27-483B-AF3C-07835767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7C80-BFF5-46F9-BF2E-6911889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9B45D-B9FE-4257-8A07-DD31728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28180-BC87-42DC-8E8F-A96E2AAE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75A8-EF92-4F7F-A93D-1FF1EE96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9C88-9880-47A4-8705-6AD2E7F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A9A58-B818-4C2A-B95C-4D123611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F3E1A-5C53-478B-9E2C-8209636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6BFE6-24A0-4189-9AB3-E560C57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11FF-B6E4-4885-90B9-DCA1281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FD91-0F1A-42EB-B2B6-243EF56B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C97-EFE1-41F1-A7E4-76ABFC5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F2A29-BEF4-4E46-B4E2-E7C17D9F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708A-BBEE-4185-8EED-8C559458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1C649-F826-4CAE-875B-6F4F8540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97C6-523B-43BD-9C77-3FABEEE4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640D0-2E33-4EE0-A373-744C17C2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9A8B-173A-4D10-A1DA-348B6D4C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F281-C820-4AD3-8A59-A08EA6DD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D803-BBD9-4188-B0E0-D48618C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13AC-2AFB-44DC-B945-A19A0E8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01A3-5419-46F0-9E16-685DB2B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4D1-E1FF-4BA5-BE5D-06618A8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9BA3-E4AB-4589-8F4F-5335185F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BD38A-E562-45F4-83BB-663C484E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9784-2D7A-4D7D-90D3-227774B2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14A-31AC-4D88-9BAD-702E102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4F3-DA2E-49D8-A262-630E247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3FA-BEB1-469A-A554-326B0752E0C7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3952"/>
            </a:gs>
            <a:gs pos="100000">
              <a:srgbClr val="7a88a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2F4-916C-4F01-BD6B-CE0C4391DAD4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3952"/>
            </a:gs>
            <a:gs pos="100000">
              <a:srgbClr val="7a88a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B2CA-23BA-4B65-B016-6D280BBCEBBD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3AFE-DCFB-459A-A66E-779A04A9F267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E439-946E-4A3F-BBD8-E0F9FF1CFCE0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590-090D-4163-A4B6-3A8007A40FC0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By: Jeremy Tyler Jack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Nose Cone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nose con should be pointed  and should b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able to cove the top of the rocket and it should be Pointed and it should be made out of a tough paper. 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Passive Recovery System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Backslider 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entury"/>
                <a:ea typeface="Arial"/>
              </a:rPr>
              <a:t>removal of the cone or a ball, or tilting the fins for a "spin" recovery</a:t>
            </a:r>
            <a:r>
              <a:rPr b="0" lang="en-US" sz="1900" spc="-1" strike="noStrike">
                <a:solidFill>
                  <a:srgbClr val="92d050"/>
                </a:solidFill>
                <a:latin typeface="Century"/>
                <a:ea typeface="Arial"/>
              </a:rPr>
              <a:t>. </a:t>
            </a:r>
            <a:r>
              <a:rPr b="0" lang="en-US" sz="1800" spc="-1" strike="noStrike">
                <a:solidFill>
                  <a:srgbClr val="92d050"/>
                </a:solidFill>
                <a:latin typeface="Century"/>
                <a:ea typeface="Arial"/>
              </a:rPr>
              <a:t>Backsliders which actually fall vertically without tipping at all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 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 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  </a:t>
            </a: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Glider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entury"/>
                <a:ea typeface="Arial"/>
              </a:rPr>
              <a:t>variations of gliders will deploy the wings at apogee and glide to the ground, which involves a change of shape which is now illegal. For building a glider you will have to have fixed wings at launch Two things to watch are: 1. That there is a rigid border to the wings and 2. That the covering on the wings is reasonably taut. 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Length of body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A standard 1L carbonated bottle of any shape or color, but cannot be modified in any way. 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1 liter or less so you will be able to use anything smaller but nothing larg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Fins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fins add satiability so I would use 3 or 4 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Amount of Water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amount of water should be where the sticker was on the bottl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Type of Glue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epoxi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enter of Gravity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center of gravity is where you put it on your finger it will balanc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2:32:24Z</dcterms:created>
  <dc:creator>BPS</dc:creator>
  <dc:description/>
  <dc:language>en-US</dc:language>
  <cp:lastModifiedBy>BPS</cp:lastModifiedBy>
  <dcterms:modified xsi:type="dcterms:W3CDTF">2011-10-12T19:35:38Z</dcterms:modified>
  <cp:revision>7</cp:revision>
  <dc:subject/>
  <dc:title>Bottle Rockets</dc:title>
</cp:coreProperties>
</file>